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7E9-E1F6-4286-AE66-70B1F50D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127-579B-4149-9B2D-55656BEA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087-B232-4077-BE3C-78800712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4F0-1A35-48D4-85FD-A59C02AD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433-50A1-4817-B98F-F278524F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26C9-C618-43F1-87D3-E9918843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B47-E457-455B-B44F-6A2A9D68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385-3049-4D2D-A186-EE5BC1BA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B77-118A-441D-ACB7-BF4A5053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07D-B7EF-4F46-B1E0-4450FE21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BC5-A76E-491F-B6A0-64F45353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BDE-8BDC-49EC-82BC-22A4974D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E08B-6710-4E4D-8D64-3407F204F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786280" cy="900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6705360" cy="3076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274320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9608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69343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1532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1629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6240" cy="171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65534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33960" cy="5562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228600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124080"/>
            <a:ext cx="1828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50292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3:54:45Z</dcterms:created>
  <dc:creator>grahams</dc:creator>
  <dc:description/>
  <dc:language>en-US</dc:language>
  <cp:lastModifiedBy>grahams</cp:lastModifiedBy>
  <dcterms:modified xsi:type="dcterms:W3CDTF">2012-03-20T13:54:50Z</dcterms:modified>
  <cp:revision>1</cp:revision>
  <dc:subject/>
  <dc:title>Slide 1</dc:title>
</cp:coreProperties>
</file>